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0920" cy="369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09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3849840" y="9378720"/>
            <a:ext cx="2938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C95A9-0055-4F42-9F3B-E703890315F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3849840" y="9379080"/>
            <a:ext cx="2938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F9E4B-FAAC-421D-A847-EFBA7E92990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79" name="Text Box 2"/>
          <p:cNvSpPr/>
          <p:nvPr/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B3613-B6F9-4763-9494-85AF63BA54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448C9-D964-458C-B93B-C757036C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AFA64-2F4B-4162-BF5E-0175EC06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FA68C-D7BF-4C01-B060-0F7F6F0F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C7F6F-4BAC-4A13-8220-D3D16177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EA0AD-1E03-4BA8-A389-E796C1DF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F0993-89EB-4583-AAA8-F7C7CA58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64906-9146-484B-AF59-48172A72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F5552-0197-48D4-91EC-AA977BDE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2D27D-9FF2-4C43-8AC4-A0F64E5C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8BF5A-6E7F-46C8-BDB6-A8AE15FD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6109B-D083-40BD-AAC5-FCD3D0F4A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3A9E-99FF-49B5-9596-DF6BC4B778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A9B3-7A97-43DB-A606-0E1A7BC4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A032-4844-4334-BF2B-50FCE4C3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635A-A715-4549-968B-3FCD8EC2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487D-EB80-4356-8C2B-6002D221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0133-D3F2-4588-8C8B-881E4483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FAB2-BA95-4E7A-A985-C63EBD66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32B6-3314-4E73-9B95-2545EF2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35BC-258A-4B21-B7DE-6A08154D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633D-2DDE-45CF-98FF-9AF401A5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13CF-8305-408D-A14C-4F9A6952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AEF6-8F5C-4757-8CD1-454A2C84D6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68C30-98A4-43B0-9A8A-C58ADD20B0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6CCCD-9704-4DA8-9CC7-866EFED4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631E8-2D33-40FC-9DE4-4A3ED372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5EF36-C11B-4F9F-9565-92B10701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72E61-664A-4BBD-AB7A-27B3A842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4F734-EF0B-4F7C-B9DB-66318341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B0262-8A9E-4F57-959F-93691D87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E4915-6C68-460E-8838-B1624D4F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72D9C-0D8D-4DEC-AD25-9ACFC6BD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017DD-5276-40C6-8ED7-22FE1206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AE92B-88C2-4136-AEE1-BA1C1F2D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C6BA6-2C13-4561-B9B6-FCF0443A9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A42D2-E2C0-4DF7-8D94-EFFB8736F7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EE35BD-6E9A-4393-BF9F-3897AD6B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742F2-923F-49FD-BA60-00660DC3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54D29-C4F6-43C7-A538-F3060EBF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4478F-E6FC-4FF0-89C1-0A37D776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5C83B-E03C-4FFD-AC9B-3C6D6C4A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93797-8FB4-412D-A0FD-CEC0E462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7D936-E438-4F9D-998B-CF4D61C0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FB9F7-22EF-41AF-93DE-03D207E6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5EC71-D5C6-47C8-A023-FF963228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393E9-E187-4585-9082-1419AD8B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A1A7A-D05E-4936-B729-A69B76976C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4220-3449-44A5-983E-D9D3192D49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53637-4853-4188-A0F0-6AAC7B2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9332A-68CF-40AD-8F85-0310159F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E425-33C0-456F-9DED-AD567102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5C3F-E6C0-4F61-986D-67D563A6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DE909-037C-4DE2-A1E4-150E28D7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8DA7-894D-4376-A79D-0EC5918E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70E24-590E-4BFC-ACC8-E93B5510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906F9-7781-4B1B-A938-81D84ED9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848A2-D818-4FCB-A74E-91F86B93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9DAB2-F605-4317-A5D3-4DBCC80A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D098-1B5C-4F6A-AB84-5A9C2590A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A0344-BB2F-44A6-8E8A-363589787A58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48B7C-E96C-4E3E-82B3-33AE5126E3DF}" type="datetime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EDFAA-8094-40D6-BF7B-6EE2A765FD8D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853F5-5B7D-4B47-A668-27FA365D4BEA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288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0" y="3867120"/>
            <a:ext cx="9144000" cy="29908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9144000" h="2990850">
                <a:moveTo>
                  <a:pt x="0" y="0"/>
                </a:moveTo>
                <a:lnTo>
                  <a:pt x="25400" y="0"/>
                </a:lnTo>
                <a:lnTo>
                  <a:pt x="25400" y="8309"/>
                </a:lnTo>
                <a:lnTo>
                  <a:pt x="0" y="830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0" y="0"/>
            <a:ext cx="9144000" cy="38671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867120"/>
              <a:gd name="textAreaBottom" fmla="*/ 3867480 h 3867120"/>
            </a:gdLst>
            <a:ahLst/>
            <a:rect l="textAreaLeft" t="textAreaTop" r="textAreaRight" b="textAreaBottom"/>
            <a:pathLst>
              <a:path w="9144000" h="3867150">
                <a:moveTo>
                  <a:pt x="0" y="0"/>
                </a:moveTo>
                <a:lnTo>
                  <a:pt x="25400" y="0"/>
                </a:lnTo>
                <a:lnTo>
                  <a:pt x="25400" y="10741"/>
                </a:lnTo>
                <a:lnTo>
                  <a:pt x="0" y="1074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0" y="2652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33640" y="2172960"/>
            <a:ext cx="59580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22120" y="4606560"/>
            <a:ext cx="596268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B21AE-7DD3-415B-8E3B-AD7BF28E4AFD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E71C9-E5AA-464F-ADC4-CC98A4F64465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0D3C1-5990-41DA-9A40-DDB936E3D9D1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8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AD1F7-2DD1-44E3-8274-921BBE23026B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9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0A87A-A39D-4B77-B24B-9A363F9092A9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0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E0EBD-B2F3-456C-8F87-D046DC61E292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1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4066C-CD45-41AF-BB7A-06E90279B39A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EF1A7-CCB9-4637-9D97-6AC0D2C5FEFB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 подходах к разработке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всероссийских проверочных работ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 пяти предметам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для обучающихся 11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484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Демидова М.Ю., руководитель Центра педагогических измерений ФГБНУ «ФИП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36920" y="5084640"/>
            <a:ext cx="4535280" cy="15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24000" y="1563840"/>
            <a:ext cx="4446360" cy="265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4211640" y="3111480"/>
            <a:ext cx="448164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128160"/>
            <a:ext cx="7861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ы научного позн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3640" y="1273320"/>
            <a:ext cx="3961080" cy="53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324000" y="4659480"/>
            <a:ext cx="4432320" cy="20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Прямоугольник 2"/>
          <p:cNvSpPr/>
          <p:nvPr/>
        </p:nvSpPr>
        <p:spPr>
          <a:xfrm>
            <a:off x="466560" y="1557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онимание фундаментальных опы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амостоятельное планирование исследов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контекст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559040" cy="46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4481640" y="2897280"/>
            <a:ext cx="4576680" cy="7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0" name="Picture 4" descr=""/>
          <p:cNvPicPr/>
          <p:nvPr/>
        </p:nvPicPr>
        <p:blipFill>
          <a:blip r:embed="rId3"/>
          <a:stretch/>
        </p:blipFill>
        <p:spPr>
          <a:xfrm>
            <a:off x="4500720" y="3943440"/>
            <a:ext cx="4557600" cy="222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контролируют степень овладения знаниями и умениями базового курса биологии и проверяют сформированность у выпускников практико-ориентированной биологической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азделы курса биологии: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«Биология как наука. Методы научного познания», «Клетка», «Организм», «Вид», «Экосистемы», «Организм человека и его здоров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своение понятийного аппарата курса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методологическими ум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менение знаний при объяснении биологических процессов, явлений, а также решении элементарных биолог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умениями по работе с информацией биологического содерж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348000" y="3906720"/>
            <a:ext cx="5602320" cy="27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79280" y="1457280"/>
            <a:ext cx="534348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ктико-ориентированное содержание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788000" y="1550880"/>
            <a:ext cx="4130640" cy="51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331920" y="3651120"/>
            <a:ext cx="429408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000" y="1700280"/>
            <a:ext cx="7994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ключены задания по содержательным блокам: «Теоретические основы химии», «Неорганическая химия», «Органическая химия», «Методы познания в хим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кратким ответом проверяют на базовом уровне усвоение большинства элементов содержания, изучаемых в рамках основных тем курса химии 10-11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развернутым ответом проверяют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ставлять уравнения реакций, подтверждающих свойства веществ и/или взаимосвязь различных классов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ъяснять обусловленность свойств и способов получения веществ их составом и строе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ычислять массу или объем веществ, участвующих в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Источники географическ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Миров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родопользование и гео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егионы и страны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Географ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 работе провер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нание географических явлений и процессов в геосферах и географических особенностей природы населения и хозяйства отдельных территор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анализировать географическую информацию, представленную в различных форм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пособность применять полученные в школе географические знания для объяснения различных событий и явлений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кация доку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убликация документов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, регламентирующих разработку ВПР-11 по пяти предме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исания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дификаторы проверяемых элементов содержания и требований к уровню подготовк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разцы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нец ноября 2016 года, сайт ФГБНУ «ФИП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 ВПР не требует организации специальной подготов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26920" y="2637000"/>
            <a:ext cx="760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1e4649"/>
                </a:solidFill>
                <a:latin typeface="Garamond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18920" y="7560"/>
            <a:ext cx="67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Р-11 в 201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39640" y="1484280"/>
            <a:ext cx="813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Распоряжение Рособрнадзора №2322-05 от 30.08.201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«Об утверждении графиков проведения мероприятий, направленных на исследование качества образования на 2016-2017 год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График проведения всероссийских проверочных работ в 11 клас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76360" y="3789360"/>
          <a:ext cx="6095880" cy="2224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редм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Дата про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я 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дура подготовки вариантов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проекта кодификатора, описания всероссийской проверочной работы по предмету и образца вариан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фокус-групп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профессиональном сообществе, экспертиза документов, регламентирующих разработку ВП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Публикация описаний, кодификаторов и образцов вариа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вариантов ВПР по 5 предметам, проведение содержательных и тестологических экспертиз. Подготовка оригинал-маке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1. Назначение В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ПР-11 предназначена для итоговой оценки учебной подготовки выпускников, изучавших школьный курс данного предмета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 базовом уровне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2. Документ, определяющий содержание ВП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Федеральный компонент государственного образовательного стандарта среднего (полного) общего образования по предмету, базовый уровень (приказ Минобразования России от 05.03.2004 № 108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3. Время выполнения работы – 9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4. Уровни сложности зад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базовый уровень  (порядка 60% от максимального бал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вышенный уровень (порядка 40% от максимального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5. Формы заданий – с кратким и развернутым ответом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используются модели, не предназначенные для бланковой технологии). Использование контекстных заданий и дополнительных справочных 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6.  Содержание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наиболее значимые элементы содержания всех разделов предметного кур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7. Количество заданий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до 20 заданий в вариа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412640"/>
            <a:ext cx="799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школьниками базовыми историческими знан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ыт применения историко-культурного подхода к оценке социаль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применять исторические знания для осмысления сущности обществен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искать, анализировать, сопоставлять и оценивать содержащуюся в различных источниках информацию о событиях и явлениях прошлого</a:t>
            </a:r>
            <a:r>
              <a:rPr b="0" lang="ru-RU" sz="16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15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</a:rPr>
              <a:t>история России с древнейших времён до наших дней и истории родного края.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(Знания по всеобщей истории проверяются в работе только в контексте истории Ро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знание учащимися истории, культуры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и культура родного края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53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тивность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75280" cy="545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483920"/>
            <a:ext cx="799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ять групп  заданий, оценивающих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онимать смысл изученных физических понятий, величин, законов, мод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писывать и объяснять физические явления и свойства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бъяснять устройство и принцип действия технических объ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Делать выводы на основе экспериментальных данных, планировать ис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Воспринимать и оценивать информацию физического содержания (работа с текс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роверка фундаментальных принципов и законов, наиболее значимых элементов содержания из всех разделов курса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марина</cp:lastModifiedBy>
  <dcterms:modified xsi:type="dcterms:W3CDTF">2016-10-28T05:16:37Z</dcterms:modified>
  <cp:revision>527</cp:revision>
  <dc:subject/>
  <dc:title>Презентация PowerPoint</dc:title>
</cp:coreProperties>
</file>