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DF3C-24E2-4F6F-893B-694BEFE2F5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AE1-E0A6-4532-B728-0BBE001D7A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DA80-809A-4C5D-8271-37C2FDAA8D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37A2-B6D2-4FFF-A2C9-86BDFD8E12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655C-1ED3-4B5F-B039-4B346384F5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C9A3-82B4-4586-A508-FED291E9DC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AD4F-D0D2-4851-BCEA-1ABC9B1FA75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3211-6E2D-4792-8082-BDAB219DED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D34C-F5A6-45FA-A7D3-B2BB84489F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BF6-0073-4F50-B6B0-892AFA828EF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6490-98CE-48F3-B9D0-CAF67F445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84CB-C0B7-4003-B4A7-C93356E30B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61B-1B77-4C99-AA2C-8ADCF58A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BCD-DA3A-4AE8-AC90-A37C56DB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5C4-D0DF-457C-A8B6-4DE92E47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FCF-3883-40F7-A757-417E3AE0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835B-F1DA-404D-B00E-89C3CD27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41AC-A754-4FB2-B21D-046547E7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8DF7-95AA-47E2-9B6F-65559531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744D-EF31-4A78-A106-C360C65E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6843-3709-4A0A-B445-AE323EAF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1F5-43CD-454C-B662-61E7A241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9B28-6864-4FA2-88A0-E1FF2F30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F80-FA70-42B8-A390-D5993A57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EE4A-1594-42CC-8EE7-E02654A1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C876-C34A-446C-9CCB-99E4058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F3A3-5FEC-4A2B-ADCB-59EC210E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F959-8FF1-4E71-A13E-F359F86B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18F2-EEAA-4BF5-B78D-0E42CAAC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CEB6-143A-4384-84C8-618AF5D9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1607-ADBC-4760-BE4E-AF636913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718A-4856-4BEA-B815-F5E8DE95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0E66-3CBB-4E11-BF0A-C46B3DC5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0490-10F0-4DD5-9BCF-87AA3236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51D-D708-4CAC-83C5-3D690DF0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6067-66F0-4716-874A-57D79A20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9686-CA18-45BD-98B5-C179990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BCA8-3FEF-47D6-B948-4FDDA5C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715C-962C-41D5-936A-782DF9FB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D904-3FAD-4F98-9AC9-E01D32E3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5035-B522-4ECE-9CB3-EB858BAA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E671-56A6-4506-B5F8-A40564EF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10A-AF8D-4AC1-BFD6-EA44D5B2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DBD-6A50-45D3-B8E0-8A84DFA0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D75-AC4D-44E5-98C7-269682C8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F0A-8765-4CBE-A118-33B3A30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420-AC5C-4341-9290-188F556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BAF-282D-4F06-8C8D-4AD84742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7143-DAE9-4462-871C-F63BCBA279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DA6A-F53A-488F-AC57-5A794F89B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A485-AAF6-4B69-820E-0BA8FD3531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E9B0-67BB-4C20-B7D1-F32319087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738E-6EF1-415E-85B9-E472CC203F1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5309-4127-4E90-87BF-A30268ECE5C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7"/>
          <p:cNvSpPr/>
          <p:nvPr/>
        </p:nvSpPr>
        <p:spPr>
          <a:xfrm>
            <a:off x="468360" y="1130400"/>
            <a:ext cx="8280360" cy="32630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результаты исследования компетенций учителей математики,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ргей Владимирович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нчен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Центра националь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ждународных исследований качества образов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го государственного бюджетного учрежде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едеральный институт оценки качества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826920" y="1131840"/>
            <a:ext cx="756144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уровневой градации (одновременно с модернизацией профессионального стандарта педаг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ханизмов диагностики и профессиональной помощи на основе результатов оценки, в том числе, на основе адресного повышения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методик оценки психолого-педагогических компет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енно-профессиональное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Дальнейши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539640" y="206676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7"/>
          <p:cNvSpPr/>
          <p:nvPr/>
        </p:nvSpPr>
        <p:spPr>
          <a:xfrm>
            <a:off x="250920" y="195120"/>
            <a:ext cx="864216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Источники информации об уровне компетенций учителей.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"/>
          <p:cNvSpPr/>
          <p:nvPr/>
        </p:nvSpPr>
        <p:spPr>
          <a:xfrm>
            <a:off x="495144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135400" y="253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сравнитель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8"/>
          <p:cNvSpPr/>
          <p:nvPr/>
        </p:nvSpPr>
        <p:spPr>
          <a:xfrm>
            <a:off x="207180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451240" y="25351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3079800" y="379872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459240" y="3833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2"/>
          <p:cNvSpPr/>
          <p:nvPr/>
        </p:nvSpPr>
        <p:spPr>
          <a:xfrm>
            <a:off x="106380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442880" y="12319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4"/>
          <p:cNvSpPr/>
          <p:nvPr/>
        </p:nvSpPr>
        <p:spPr>
          <a:xfrm>
            <a:off x="401652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395960" y="12319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6"/>
          <p:cNvSpPr/>
          <p:nvPr/>
        </p:nvSpPr>
        <p:spPr>
          <a:xfrm>
            <a:off x="5940360" y="3798720"/>
            <a:ext cx="237672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105600" y="3808440"/>
            <a:ext cx="20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компетенций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7"/>
          <p:cNvSpPr/>
          <p:nvPr/>
        </p:nvSpPr>
        <p:spPr>
          <a:xfrm>
            <a:off x="250920" y="195120"/>
            <a:ext cx="8642160" cy="794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Разработка модели оценки компетенций учителей. 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частии ассоциаций учителей истории, математики,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1835280" y="130824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214720" y="13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учителя истор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15 г., 6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1835280" y="248616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2041560" y="25210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ое исследование компетенций учителей русского языка и математики (осень 2015 г., 2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1835280" y="3665520"/>
            <a:ext cx="5329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2016000" y="37004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е компетенций учителей русского языка, литературы и математики (весна-осень 2016 г., 20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ценка компетенций как часть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944800" y="2316240"/>
            <a:ext cx="2930400" cy="142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С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855720" y="1382760"/>
            <a:ext cx="208908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ценка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68360" y="268272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867280" y="1190520"/>
            <a:ext cx="25923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профессиональной помощи и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732720" y="2546280"/>
            <a:ext cx="230328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реды профессиональ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55640" y="4032360"/>
            <a:ext cx="20876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стим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6389640" y="4226040"/>
            <a:ext cx="165744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1"/>
          <p:cNvSpPr/>
          <p:nvPr/>
        </p:nvSpPr>
        <p:spPr>
          <a:xfrm>
            <a:off x="2427120" y="2827440"/>
            <a:ext cx="344520" cy="42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право 10"/>
          <p:cNvSpPr/>
          <p:nvPr/>
        </p:nvSpPr>
        <p:spPr>
          <a:xfrm rot="2952600">
            <a:off x="3095640" y="1670040"/>
            <a:ext cx="649440" cy="426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 rot="18913200">
            <a:off x="3000240" y="3889080"/>
            <a:ext cx="649440" cy="4284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13"/>
          <p:cNvSpPr/>
          <p:nvPr/>
        </p:nvSpPr>
        <p:spPr>
          <a:xfrm rot="13497000">
            <a:off x="5647680" y="373032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14"/>
          <p:cNvSpPr/>
          <p:nvPr/>
        </p:nvSpPr>
        <p:spPr>
          <a:xfrm rot="10800000">
            <a:off x="6192720" y="2833200"/>
            <a:ext cx="395280" cy="42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15"/>
          <p:cNvSpPr/>
          <p:nvPr/>
        </p:nvSpPr>
        <p:spPr>
          <a:xfrm rot="8266800">
            <a:off x="5093640" y="166068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7"/>
          <p:cNvSpPr/>
          <p:nvPr/>
        </p:nvSpPr>
        <p:spPr>
          <a:xfrm>
            <a:off x="755640" y="13032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преподавания, в том числе, объективное оценивание уровня подготовки 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анируется апробировать в 2017 г. различные формы оценки, в том числе, оценку реальной работы учителя на уроке, которая может быть реализована на уровне О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620640" y="371520"/>
            <a:ext cx="806472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сновные группы компетенций (в планируемой модели), 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в соответствии с Профессиональным стандартом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24000" y="11916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mbria"/>
              </a:rPr>
              <a:t>Исследование компетенций учителей, апрель-май 2016 года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1" descr=""/>
          <p:cNvPicPr/>
          <p:nvPr/>
        </p:nvPicPr>
        <p:blipFill>
          <a:blip r:embed="rId1"/>
          <a:srcRect l="0" t="0" r="-38" b="0"/>
          <a:stretch/>
        </p:blipFill>
        <p:spPr>
          <a:xfrm>
            <a:off x="0" y="858960"/>
            <a:ext cx="3995640" cy="2154240"/>
          </a:xfrm>
          <a:prstGeom prst="rect">
            <a:avLst/>
          </a:prstGeom>
          <a:ln w="0">
            <a:noFill/>
          </a:ln>
        </p:spPr>
      </p:pic>
      <p:pic>
        <p:nvPicPr>
          <p:cNvPr id="169" name="Диаграмма 1" descr=""/>
          <p:cNvPicPr/>
          <p:nvPr/>
        </p:nvPicPr>
        <p:blipFill>
          <a:blip r:embed="rId2"/>
          <a:stretch/>
        </p:blipFill>
        <p:spPr>
          <a:xfrm>
            <a:off x="4427640" y="773280"/>
            <a:ext cx="4392360" cy="2323800"/>
          </a:xfrm>
          <a:prstGeom prst="rect">
            <a:avLst/>
          </a:prstGeom>
          <a:ln w="0">
            <a:noFill/>
          </a:ln>
        </p:spPr>
      </p:pic>
      <p:pic>
        <p:nvPicPr>
          <p:cNvPr id="170" name="Диаграмма 1" descr=""/>
          <p:cNvPicPr/>
          <p:nvPr/>
        </p:nvPicPr>
        <p:blipFill>
          <a:blip r:embed="rId3"/>
          <a:srcRect l="-195" t="-4155" r="-816" b="-3377"/>
          <a:stretch/>
        </p:blipFill>
        <p:spPr>
          <a:xfrm>
            <a:off x="2195640" y="3103560"/>
            <a:ext cx="4578120" cy="189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95280" y="5076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дметная 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62160" y="915840"/>
            <a:ext cx="1911240" cy="473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649760" y="933480"/>
            <a:ext cx="32004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,2 %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математ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правились с зад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95640" y="99540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82680" y="175428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ком предложении выделенное слово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643280" y="1727280"/>
            <a:ext cx="424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7,2 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ителей русского языка выбрали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Вот уже несколько минут Иван напряженно всматривал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д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надеясь разглядеть на горизонте пароходный д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39560" y="3193920"/>
            <a:ext cx="396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а цитата из письм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девушка сама неглупая предпочитает дурака умному человеку; и этот человек, разумеется, в противуречии с обществом его окружающим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произведение, о котором идет речь и его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4668840" y="3144960"/>
            <a:ext cx="374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,3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литературы не узнали комедию «Горе от ума» по приведенной ци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42920" y="1417680"/>
            <a:ext cx="67690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аждому из предметов значительная доля учителей показала относительно невысокие результаты выполнения стандартных учебны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констатировать достаточно низкий уровень методических компетенций учителей, неумение объяснить свои действия, спланировать учебную работу в соответствии с конкретной зада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лен недостаточный уровень владения приемами объективного стандартизированного оценивания результатов обучения, что может препятствовать эффективному выполнению учителями их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б уровне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843120"/>
            <a:ext cx="864072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дифференцировать уровень компетенций учителей по всем заявленным блокам, однако имеет свои ограничения: не все виды компетенций можно оценить зада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ые в исследовании подходы могут применяться как для оценки компетенций учителей в рамках аттестационных процедур, так и для диагностики с целью организации адресного повышения квалификации и оказания профессиональной помощи учителю на основе результатов выполнения им диагност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обеспечить единые для всех регионов подходы к оценке уровня квалификации уч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 развитие апробированного подхода в направлении введения уровневой градации результатов диагностики одновременно с модернизацией профессионального стандарта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обеспечить максимальную вариативность заданий, основанных на педагогических ситуациях, чтобы учитель имел возможность проявить свои компетенции в ситуации, близкой к его практическо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рассмотреть вопрос расширения спектра оцениваемых компетенций путем включения оценки психолого-педагогических компетенций учителя, осуществляемой, в том числе, с привлечением региональных методических объединений или на школь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 модели оценки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10-28T08:17:18Z</dcterms:modified>
  <cp:revision>657</cp:revision>
  <dc:subject/>
  <dc:title>Презентация PowerPoint</dc:title>
</cp:coreProperties>
</file>